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9640" y="6308640"/>
            <a:ext cx="3616200" cy="107640"/>
            <a:chOff x="539640" y="6308640"/>
            <a:chExt cx="3616200" cy="107640"/>
          </a:xfrm>
        </p:grpSpPr>
        <p:sp>
          <p:nvSpPr>
            <p:cNvPr id="1" name=""/>
            <p:cNvSpPr/>
            <p:nvPr/>
          </p:nvSpPr>
          <p:spPr>
            <a:xfrm>
              <a:off x="2144520" y="6308640"/>
              <a:ext cx="2011320" cy="107640"/>
            </a:xfrm>
            <a:custGeom>
              <a:avLst/>
              <a:gdLst/>
              <a:ahLst/>
              <a:rect l="l" t="t" r="r" b="b"/>
              <a:pathLst>
                <a:path w="12677" h="681">
                  <a:moveTo>
                    <a:pt x="371" y="94"/>
                  </a:moveTo>
                  <a:lnTo>
                    <a:pt x="371" y="12"/>
                  </a:lnTo>
                  <a:lnTo>
                    <a:pt x="0" y="12"/>
                  </a:lnTo>
                  <a:lnTo>
                    <a:pt x="0" y="669"/>
                  </a:lnTo>
                  <a:lnTo>
                    <a:pt x="95" y="669"/>
                  </a:lnTo>
                  <a:lnTo>
                    <a:pt x="95" y="369"/>
                  </a:lnTo>
                  <a:lnTo>
                    <a:pt x="346" y="369"/>
                  </a:lnTo>
                  <a:lnTo>
                    <a:pt x="346" y="285"/>
                  </a:lnTo>
                  <a:lnTo>
                    <a:pt x="95" y="285"/>
                  </a:lnTo>
                  <a:lnTo>
                    <a:pt x="95" y="94"/>
                  </a:lnTo>
                  <a:lnTo>
                    <a:pt x="371" y="94"/>
                  </a:lnTo>
                  <a:close/>
                  <a:moveTo>
                    <a:pt x="1104" y="340"/>
                  </a:moveTo>
                  <a:lnTo>
                    <a:pt x="1103" y="304"/>
                  </a:lnTo>
                  <a:lnTo>
                    <a:pt x="1099" y="270"/>
                  </a:lnTo>
                  <a:lnTo>
                    <a:pt x="1092" y="238"/>
                  </a:lnTo>
                  <a:lnTo>
                    <a:pt x="1083" y="207"/>
                  </a:lnTo>
                  <a:lnTo>
                    <a:pt x="1072" y="177"/>
                  </a:lnTo>
                  <a:lnTo>
                    <a:pt x="1058" y="149"/>
                  </a:lnTo>
                  <a:lnTo>
                    <a:pt x="1042" y="123"/>
                  </a:lnTo>
                  <a:lnTo>
                    <a:pt x="1023" y="98"/>
                  </a:lnTo>
                  <a:lnTo>
                    <a:pt x="1000" y="76"/>
                  </a:lnTo>
                  <a:lnTo>
                    <a:pt x="976" y="55"/>
                  </a:lnTo>
                  <a:lnTo>
                    <a:pt x="950" y="39"/>
                  </a:lnTo>
                  <a:lnTo>
                    <a:pt x="921" y="25"/>
                  </a:lnTo>
                  <a:lnTo>
                    <a:pt x="891" y="13"/>
                  </a:lnTo>
                  <a:lnTo>
                    <a:pt x="859" y="6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1" y="1"/>
                  </a:lnTo>
                  <a:lnTo>
                    <a:pt x="717" y="6"/>
                  </a:lnTo>
                  <a:lnTo>
                    <a:pt x="685" y="13"/>
                  </a:lnTo>
                  <a:lnTo>
                    <a:pt x="654" y="25"/>
                  </a:lnTo>
                  <a:lnTo>
                    <a:pt x="626" y="39"/>
                  </a:lnTo>
                  <a:lnTo>
                    <a:pt x="600" y="55"/>
                  </a:lnTo>
                  <a:lnTo>
                    <a:pt x="575" y="76"/>
                  </a:lnTo>
                  <a:lnTo>
                    <a:pt x="552" y="98"/>
                  </a:lnTo>
                  <a:lnTo>
                    <a:pt x="543" y="111"/>
                  </a:lnTo>
                  <a:lnTo>
                    <a:pt x="534" y="123"/>
                  </a:lnTo>
                  <a:lnTo>
                    <a:pt x="518" y="149"/>
                  </a:lnTo>
                  <a:lnTo>
                    <a:pt x="504" y="177"/>
                  </a:lnTo>
                  <a:lnTo>
                    <a:pt x="493" y="206"/>
                  </a:lnTo>
                  <a:lnTo>
                    <a:pt x="485" y="238"/>
                  </a:lnTo>
                  <a:lnTo>
                    <a:pt x="479" y="270"/>
                  </a:lnTo>
                  <a:lnTo>
                    <a:pt x="475" y="304"/>
                  </a:lnTo>
                  <a:lnTo>
                    <a:pt x="473" y="340"/>
                  </a:lnTo>
                  <a:lnTo>
                    <a:pt x="475" y="377"/>
                  </a:lnTo>
                  <a:lnTo>
                    <a:pt x="479" y="412"/>
                  </a:lnTo>
                  <a:lnTo>
                    <a:pt x="485" y="444"/>
                  </a:lnTo>
                  <a:lnTo>
                    <a:pt x="493" y="475"/>
                  </a:lnTo>
                  <a:lnTo>
                    <a:pt x="504" y="504"/>
                  </a:lnTo>
                  <a:lnTo>
                    <a:pt x="519" y="531"/>
                  </a:lnTo>
                  <a:lnTo>
                    <a:pt x="534" y="557"/>
                  </a:lnTo>
                  <a:lnTo>
                    <a:pt x="552" y="581"/>
                  </a:lnTo>
                  <a:lnTo>
                    <a:pt x="575" y="604"/>
                  </a:lnTo>
                  <a:lnTo>
                    <a:pt x="587" y="615"/>
                  </a:lnTo>
                  <a:lnTo>
                    <a:pt x="600" y="625"/>
                  </a:lnTo>
                  <a:lnTo>
                    <a:pt x="626" y="642"/>
                  </a:lnTo>
                  <a:lnTo>
                    <a:pt x="654" y="656"/>
                  </a:lnTo>
                  <a:lnTo>
                    <a:pt x="685" y="668"/>
                  </a:lnTo>
                  <a:lnTo>
                    <a:pt x="717" y="675"/>
                  </a:lnTo>
                  <a:lnTo>
                    <a:pt x="751" y="680"/>
                  </a:lnTo>
                  <a:lnTo>
                    <a:pt x="788" y="681"/>
                  </a:lnTo>
                  <a:lnTo>
                    <a:pt x="824" y="680"/>
                  </a:lnTo>
                  <a:lnTo>
                    <a:pt x="859" y="675"/>
                  </a:lnTo>
                  <a:lnTo>
                    <a:pt x="891" y="668"/>
                  </a:lnTo>
                  <a:lnTo>
                    <a:pt x="921" y="656"/>
                  </a:lnTo>
                  <a:lnTo>
                    <a:pt x="950" y="642"/>
                  </a:lnTo>
                  <a:lnTo>
                    <a:pt x="976" y="625"/>
                  </a:lnTo>
                  <a:lnTo>
                    <a:pt x="1000" y="604"/>
                  </a:lnTo>
                  <a:lnTo>
                    <a:pt x="1023" y="581"/>
                  </a:lnTo>
                  <a:lnTo>
                    <a:pt x="1033" y="569"/>
                  </a:lnTo>
                  <a:lnTo>
                    <a:pt x="1042" y="557"/>
                  </a:lnTo>
                  <a:lnTo>
                    <a:pt x="1058" y="531"/>
                  </a:lnTo>
                  <a:lnTo>
                    <a:pt x="1072" y="504"/>
                  </a:lnTo>
                  <a:lnTo>
                    <a:pt x="1083" y="474"/>
                  </a:lnTo>
                  <a:lnTo>
                    <a:pt x="1092" y="443"/>
                  </a:lnTo>
                  <a:lnTo>
                    <a:pt x="1099" y="411"/>
                  </a:lnTo>
                  <a:lnTo>
                    <a:pt x="1103" y="377"/>
                  </a:lnTo>
                  <a:lnTo>
                    <a:pt x="1104" y="340"/>
                  </a:lnTo>
                  <a:close/>
                  <a:moveTo>
                    <a:pt x="1004" y="340"/>
                  </a:moveTo>
                  <a:lnTo>
                    <a:pt x="1003" y="368"/>
                  </a:lnTo>
                  <a:lnTo>
                    <a:pt x="1001" y="394"/>
                  </a:lnTo>
                  <a:lnTo>
                    <a:pt x="996" y="419"/>
                  </a:lnTo>
                  <a:lnTo>
                    <a:pt x="990" y="442"/>
                  </a:lnTo>
                  <a:lnTo>
                    <a:pt x="982" y="465"/>
                  </a:lnTo>
                  <a:lnTo>
                    <a:pt x="972" y="485"/>
                  </a:lnTo>
                  <a:lnTo>
                    <a:pt x="961" y="505"/>
                  </a:lnTo>
                  <a:lnTo>
                    <a:pt x="948" y="523"/>
                  </a:lnTo>
                  <a:lnTo>
                    <a:pt x="933" y="541"/>
                  </a:lnTo>
                  <a:lnTo>
                    <a:pt x="915" y="556"/>
                  </a:lnTo>
                  <a:lnTo>
                    <a:pt x="898" y="568"/>
                  </a:lnTo>
                  <a:lnTo>
                    <a:pt x="878" y="579"/>
                  </a:lnTo>
                  <a:lnTo>
                    <a:pt x="858" y="587"/>
                  </a:lnTo>
                  <a:lnTo>
                    <a:pt x="835" y="593"/>
                  </a:lnTo>
                  <a:lnTo>
                    <a:pt x="813" y="596"/>
                  </a:lnTo>
                  <a:lnTo>
                    <a:pt x="788" y="597"/>
                  </a:lnTo>
                  <a:lnTo>
                    <a:pt x="763" y="596"/>
                  </a:lnTo>
                  <a:lnTo>
                    <a:pt x="740" y="593"/>
                  </a:lnTo>
                  <a:lnTo>
                    <a:pt x="729" y="590"/>
                  </a:lnTo>
                  <a:lnTo>
                    <a:pt x="718" y="587"/>
                  </a:lnTo>
                  <a:lnTo>
                    <a:pt x="698" y="579"/>
                  </a:lnTo>
                  <a:lnTo>
                    <a:pt x="678" y="568"/>
                  </a:lnTo>
                  <a:lnTo>
                    <a:pt x="660" y="556"/>
                  </a:lnTo>
                  <a:lnTo>
                    <a:pt x="652" y="549"/>
                  </a:lnTo>
                  <a:lnTo>
                    <a:pt x="644" y="541"/>
                  </a:lnTo>
                  <a:lnTo>
                    <a:pt x="628" y="523"/>
                  </a:lnTo>
                  <a:lnTo>
                    <a:pt x="615" y="505"/>
                  </a:lnTo>
                  <a:lnTo>
                    <a:pt x="603" y="485"/>
                  </a:lnTo>
                  <a:lnTo>
                    <a:pt x="593" y="465"/>
                  </a:lnTo>
                  <a:lnTo>
                    <a:pt x="585" y="442"/>
                  </a:lnTo>
                  <a:lnTo>
                    <a:pt x="579" y="419"/>
                  </a:lnTo>
                  <a:lnTo>
                    <a:pt x="574" y="394"/>
                  </a:lnTo>
                  <a:lnTo>
                    <a:pt x="572" y="368"/>
                  </a:lnTo>
                  <a:lnTo>
                    <a:pt x="571" y="340"/>
                  </a:lnTo>
                  <a:lnTo>
                    <a:pt x="572" y="313"/>
                  </a:lnTo>
                  <a:lnTo>
                    <a:pt x="574" y="288"/>
                  </a:lnTo>
                  <a:lnTo>
                    <a:pt x="579" y="263"/>
                  </a:lnTo>
                  <a:lnTo>
                    <a:pt x="585" y="240"/>
                  </a:lnTo>
                  <a:lnTo>
                    <a:pt x="593" y="217"/>
                  </a:lnTo>
                  <a:lnTo>
                    <a:pt x="603" y="197"/>
                  </a:lnTo>
                  <a:lnTo>
                    <a:pt x="615" y="176"/>
                  </a:lnTo>
                  <a:lnTo>
                    <a:pt x="628" y="159"/>
                  </a:lnTo>
                  <a:lnTo>
                    <a:pt x="644" y="140"/>
                  </a:lnTo>
                  <a:lnTo>
                    <a:pt x="661" y="126"/>
                  </a:lnTo>
                  <a:lnTo>
                    <a:pt x="678" y="113"/>
                  </a:lnTo>
                  <a:lnTo>
                    <a:pt x="698" y="102"/>
                  </a:lnTo>
                  <a:lnTo>
                    <a:pt x="718" y="94"/>
                  </a:lnTo>
                  <a:lnTo>
                    <a:pt x="740" y="88"/>
                  </a:lnTo>
                  <a:lnTo>
                    <a:pt x="763" y="85"/>
                  </a:lnTo>
                  <a:lnTo>
                    <a:pt x="788" y="84"/>
                  </a:lnTo>
                  <a:lnTo>
                    <a:pt x="813" y="85"/>
                  </a:lnTo>
                  <a:lnTo>
                    <a:pt x="835" y="88"/>
                  </a:lnTo>
                  <a:lnTo>
                    <a:pt x="857" y="94"/>
                  </a:lnTo>
                  <a:lnTo>
                    <a:pt x="877" y="102"/>
                  </a:lnTo>
                  <a:lnTo>
                    <a:pt x="897" y="113"/>
                  </a:lnTo>
                  <a:lnTo>
                    <a:pt x="915" y="126"/>
                  </a:lnTo>
                  <a:lnTo>
                    <a:pt x="931" y="140"/>
                  </a:lnTo>
                  <a:lnTo>
                    <a:pt x="948" y="159"/>
                  </a:lnTo>
                  <a:lnTo>
                    <a:pt x="961" y="176"/>
                  </a:lnTo>
                  <a:lnTo>
                    <a:pt x="972" y="197"/>
                  </a:lnTo>
                  <a:lnTo>
                    <a:pt x="982" y="217"/>
                  </a:lnTo>
                  <a:lnTo>
                    <a:pt x="990" y="240"/>
                  </a:lnTo>
                  <a:lnTo>
                    <a:pt x="996" y="263"/>
                  </a:lnTo>
                  <a:lnTo>
                    <a:pt x="1001" y="288"/>
                  </a:lnTo>
                  <a:lnTo>
                    <a:pt x="1003" y="313"/>
                  </a:lnTo>
                  <a:lnTo>
                    <a:pt x="1004" y="340"/>
                  </a:lnTo>
                  <a:close/>
                  <a:moveTo>
                    <a:pt x="1717" y="669"/>
                  </a:moveTo>
                  <a:lnTo>
                    <a:pt x="1717" y="585"/>
                  </a:lnTo>
                  <a:lnTo>
                    <a:pt x="1697" y="585"/>
                  </a:lnTo>
                  <a:lnTo>
                    <a:pt x="1689" y="584"/>
                  </a:lnTo>
                  <a:lnTo>
                    <a:pt x="1681" y="580"/>
                  </a:lnTo>
                  <a:lnTo>
                    <a:pt x="1671" y="572"/>
                  </a:lnTo>
                  <a:lnTo>
                    <a:pt x="1662" y="563"/>
                  </a:lnTo>
                  <a:lnTo>
                    <a:pt x="1644" y="536"/>
                  </a:lnTo>
                  <a:lnTo>
                    <a:pt x="1623" y="497"/>
                  </a:lnTo>
                  <a:lnTo>
                    <a:pt x="1598" y="444"/>
                  </a:lnTo>
                  <a:lnTo>
                    <a:pt x="1574" y="402"/>
                  </a:lnTo>
                  <a:lnTo>
                    <a:pt x="1552" y="370"/>
                  </a:lnTo>
                  <a:lnTo>
                    <a:pt x="1533" y="346"/>
                  </a:lnTo>
                  <a:lnTo>
                    <a:pt x="1564" y="331"/>
                  </a:lnTo>
                  <a:lnTo>
                    <a:pt x="1590" y="314"/>
                  </a:lnTo>
                  <a:lnTo>
                    <a:pt x="1613" y="296"/>
                  </a:lnTo>
                  <a:lnTo>
                    <a:pt x="1631" y="276"/>
                  </a:lnTo>
                  <a:lnTo>
                    <a:pt x="1645" y="255"/>
                  </a:lnTo>
                  <a:lnTo>
                    <a:pt x="1655" y="232"/>
                  </a:lnTo>
                  <a:lnTo>
                    <a:pt x="1661" y="208"/>
                  </a:lnTo>
                  <a:lnTo>
                    <a:pt x="1663" y="183"/>
                  </a:lnTo>
                  <a:lnTo>
                    <a:pt x="1662" y="164"/>
                  </a:lnTo>
                  <a:lnTo>
                    <a:pt x="1660" y="145"/>
                  </a:lnTo>
                  <a:lnTo>
                    <a:pt x="1655" y="128"/>
                  </a:lnTo>
                  <a:lnTo>
                    <a:pt x="1649" y="112"/>
                  </a:lnTo>
                  <a:lnTo>
                    <a:pt x="1641" y="97"/>
                  </a:lnTo>
                  <a:lnTo>
                    <a:pt x="1631" y="83"/>
                  </a:lnTo>
                  <a:lnTo>
                    <a:pt x="1619" y="70"/>
                  </a:lnTo>
                  <a:lnTo>
                    <a:pt x="1606" y="58"/>
                  </a:lnTo>
                  <a:lnTo>
                    <a:pt x="1591" y="47"/>
                  </a:lnTo>
                  <a:lnTo>
                    <a:pt x="1576" y="38"/>
                  </a:lnTo>
                  <a:lnTo>
                    <a:pt x="1559" y="30"/>
                  </a:lnTo>
                  <a:lnTo>
                    <a:pt x="1541" y="23"/>
                  </a:lnTo>
                  <a:lnTo>
                    <a:pt x="1523" y="18"/>
                  </a:lnTo>
                  <a:lnTo>
                    <a:pt x="1503" y="14"/>
                  </a:lnTo>
                  <a:lnTo>
                    <a:pt x="1461" y="12"/>
                  </a:lnTo>
                  <a:lnTo>
                    <a:pt x="1242" y="12"/>
                  </a:lnTo>
                  <a:lnTo>
                    <a:pt x="1242" y="669"/>
                  </a:lnTo>
                  <a:lnTo>
                    <a:pt x="1338" y="669"/>
                  </a:lnTo>
                  <a:lnTo>
                    <a:pt x="1338" y="378"/>
                  </a:lnTo>
                  <a:lnTo>
                    <a:pt x="1411" y="378"/>
                  </a:lnTo>
                  <a:lnTo>
                    <a:pt x="1423" y="379"/>
                  </a:lnTo>
                  <a:lnTo>
                    <a:pt x="1436" y="383"/>
                  </a:lnTo>
                  <a:lnTo>
                    <a:pt x="1448" y="389"/>
                  </a:lnTo>
                  <a:lnTo>
                    <a:pt x="1459" y="397"/>
                  </a:lnTo>
                  <a:lnTo>
                    <a:pt x="1470" y="408"/>
                  </a:lnTo>
                  <a:lnTo>
                    <a:pt x="1481" y="421"/>
                  </a:lnTo>
                  <a:lnTo>
                    <a:pt x="1491" y="436"/>
                  </a:lnTo>
                  <a:lnTo>
                    <a:pt x="1500" y="454"/>
                  </a:lnTo>
                  <a:lnTo>
                    <a:pt x="1568" y="593"/>
                  </a:lnTo>
                  <a:lnTo>
                    <a:pt x="1581" y="611"/>
                  </a:lnTo>
                  <a:lnTo>
                    <a:pt x="1594" y="627"/>
                  </a:lnTo>
                  <a:lnTo>
                    <a:pt x="1610" y="639"/>
                  </a:lnTo>
                  <a:lnTo>
                    <a:pt x="1625" y="650"/>
                  </a:lnTo>
                  <a:lnTo>
                    <a:pt x="1642" y="658"/>
                  </a:lnTo>
                  <a:lnTo>
                    <a:pt x="1659" y="665"/>
                  </a:lnTo>
                  <a:lnTo>
                    <a:pt x="1678" y="668"/>
                  </a:lnTo>
                  <a:lnTo>
                    <a:pt x="1697" y="669"/>
                  </a:lnTo>
                  <a:lnTo>
                    <a:pt x="1717" y="669"/>
                  </a:lnTo>
                  <a:close/>
                  <a:moveTo>
                    <a:pt x="1563" y="183"/>
                  </a:moveTo>
                  <a:lnTo>
                    <a:pt x="1561" y="205"/>
                  </a:lnTo>
                  <a:lnTo>
                    <a:pt x="1553" y="225"/>
                  </a:lnTo>
                  <a:lnTo>
                    <a:pt x="1548" y="234"/>
                  </a:lnTo>
                  <a:lnTo>
                    <a:pt x="1543" y="244"/>
                  </a:lnTo>
                  <a:lnTo>
                    <a:pt x="1536" y="253"/>
                  </a:lnTo>
                  <a:lnTo>
                    <a:pt x="1528" y="261"/>
                  </a:lnTo>
                  <a:lnTo>
                    <a:pt x="1509" y="276"/>
                  </a:lnTo>
                  <a:lnTo>
                    <a:pt x="1500" y="282"/>
                  </a:lnTo>
                  <a:lnTo>
                    <a:pt x="1490" y="287"/>
                  </a:lnTo>
                  <a:lnTo>
                    <a:pt x="1468" y="293"/>
                  </a:lnTo>
                  <a:lnTo>
                    <a:pt x="1445" y="295"/>
                  </a:lnTo>
                  <a:lnTo>
                    <a:pt x="1338" y="295"/>
                  </a:lnTo>
                  <a:lnTo>
                    <a:pt x="1338" y="94"/>
                  </a:lnTo>
                  <a:lnTo>
                    <a:pt x="1445" y="94"/>
                  </a:lnTo>
                  <a:lnTo>
                    <a:pt x="1467" y="95"/>
                  </a:lnTo>
                  <a:lnTo>
                    <a:pt x="1489" y="99"/>
                  </a:lnTo>
                  <a:lnTo>
                    <a:pt x="1507" y="106"/>
                  </a:lnTo>
                  <a:lnTo>
                    <a:pt x="1526" y="117"/>
                  </a:lnTo>
                  <a:lnTo>
                    <a:pt x="1541" y="130"/>
                  </a:lnTo>
                  <a:lnTo>
                    <a:pt x="1553" y="145"/>
                  </a:lnTo>
                  <a:lnTo>
                    <a:pt x="1560" y="164"/>
                  </a:lnTo>
                  <a:lnTo>
                    <a:pt x="1563" y="183"/>
                  </a:lnTo>
                  <a:close/>
                  <a:moveTo>
                    <a:pt x="2684" y="669"/>
                  </a:moveTo>
                  <a:lnTo>
                    <a:pt x="2684" y="12"/>
                  </a:lnTo>
                  <a:lnTo>
                    <a:pt x="2586" y="12"/>
                  </a:lnTo>
                  <a:lnTo>
                    <a:pt x="2586" y="281"/>
                  </a:lnTo>
                  <a:lnTo>
                    <a:pt x="2269" y="281"/>
                  </a:lnTo>
                  <a:lnTo>
                    <a:pt x="2269" y="12"/>
                  </a:lnTo>
                  <a:lnTo>
                    <a:pt x="2173" y="12"/>
                  </a:lnTo>
                  <a:lnTo>
                    <a:pt x="2173" y="669"/>
                  </a:lnTo>
                  <a:lnTo>
                    <a:pt x="2269" y="669"/>
                  </a:lnTo>
                  <a:lnTo>
                    <a:pt x="2269" y="365"/>
                  </a:lnTo>
                  <a:lnTo>
                    <a:pt x="2586" y="365"/>
                  </a:lnTo>
                  <a:lnTo>
                    <a:pt x="2586" y="669"/>
                  </a:lnTo>
                  <a:lnTo>
                    <a:pt x="2684" y="669"/>
                  </a:lnTo>
                  <a:close/>
                  <a:moveTo>
                    <a:pt x="3237" y="94"/>
                  </a:moveTo>
                  <a:lnTo>
                    <a:pt x="3237" y="12"/>
                  </a:lnTo>
                  <a:lnTo>
                    <a:pt x="2867" y="12"/>
                  </a:lnTo>
                  <a:lnTo>
                    <a:pt x="2867" y="669"/>
                  </a:lnTo>
                  <a:lnTo>
                    <a:pt x="3235" y="669"/>
                  </a:lnTo>
                  <a:lnTo>
                    <a:pt x="3235" y="585"/>
                  </a:lnTo>
                  <a:lnTo>
                    <a:pt x="2962" y="585"/>
                  </a:lnTo>
                  <a:lnTo>
                    <a:pt x="2962" y="369"/>
                  </a:lnTo>
                  <a:lnTo>
                    <a:pt x="3212" y="369"/>
                  </a:lnTo>
                  <a:lnTo>
                    <a:pt x="3212" y="285"/>
                  </a:lnTo>
                  <a:lnTo>
                    <a:pt x="2962" y="285"/>
                  </a:lnTo>
                  <a:lnTo>
                    <a:pt x="2962" y="94"/>
                  </a:lnTo>
                  <a:lnTo>
                    <a:pt x="3237" y="94"/>
                  </a:lnTo>
                  <a:close/>
                  <a:moveTo>
                    <a:pt x="3985" y="669"/>
                  </a:moveTo>
                  <a:lnTo>
                    <a:pt x="3698" y="12"/>
                  </a:lnTo>
                  <a:lnTo>
                    <a:pt x="3607" y="12"/>
                  </a:lnTo>
                  <a:lnTo>
                    <a:pt x="3320" y="669"/>
                  </a:lnTo>
                  <a:lnTo>
                    <a:pt x="3423" y="669"/>
                  </a:lnTo>
                  <a:lnTo>
                    <a:pt x="3491" y="501"/>
                  </a:lnTo>
                  <a:lnTo>
                    <a:pt x="3814" y="501"/>
                  </a:lnTo>
                  <a:lnTo>
                    <a:pt x="3882" y="669"/>
                  </a:lnTo>
                  <a:lnTo>
                    <a:pt x="3985" y="669"/>
                  </a:lnTo>
                  <a:close/>
                  <a:moveTo>
                    <a:pt x="3783" y="425"/>
                  </a:moveTo>
                  <a:lnTo>
                    <a:pt x="3523" y="425"/>
                  </a:lnTo>
                  <a:lnTo>
                    <a:pt x="3653" y="102"/>
                  </a:lnTo>
                  <a:lnTo>
                    <a:pt x="3783" y="425"/>
                  </a:lnTo>
                  <a:close/>
                  <a:moveTo>
                    <a:pt x="4455" y="669"/>
                  </a:moveTo>
                  <a:lnTo>
                    <a:pt x="4455" y="585"/>
                  </a:lnTo>
                  <a:lnTo>
                    <a:pt x="4186" y="585"/>
                  </a:lnTo>
                  <a:lnTo>
                    <a:pt x="4186" y="12"/>
                  </a:lnTo>
                  <a:lnTo>
                    <a:pt x="4090" y="12"/>
                  </a:lnTo>
                  <a:lnTo>
                    <a:pt x="4090" y="669"/>
                  </a:lnTo>
                  <a:lnTo>
                    <a:pt x="4455" y="669"/>
                  </a:lnTo>
                  <a:close/>
                  <a:moveTo>
                    <a:pt x="4996" y="94"/>
                  </a:moveTo>
                  <a:lnTo>
                    <a:pt x="4996" y="12"/>
                  </a:lnTo>
                  <a:lnTo>
                    <a:pt x="4500" y="12"/>
                  </a:lnTo>
                  <a:lnTo>
                    <a:pt x="4500" y="94"/>
                  </a:lnTo>
                  <a:lnTo>
                    <a:pt x="4700" y="94"/>
                  </a:lnTo>
                  <a:lnTo>
                    <a:pt x="4700" y="669"/>
                  </a:lnTo>
                  <a:lnTo>
                    <a:pt x="4796" y="669"/>
                  </a:lnTo>
                  <a:lnTo>
                    <a:pt x="4796" y="94"/>
                  </a:lnTo>
                  <a:lnTo>
                    <a:pt x="4996" y="94"/>
                  </a:lnTo>
                  <a:close/>
                  <a:moveTo>
                    <a:pt x="5619" y="669"/>
                  </a:moveTo>
                  <a:lnTo>
                    <a:pt x="5619" y="12"/>
                  </a:lnTo>
                  <a:lnTo>
                    <a:pt x="5522" y="12"/>
                  </a:lnTo>
                  <a:lnTo>
                    <a:pt x="5522" y="281"/>
                  </a:lnTo>
                  <a:lnTo>
                    <a:pt x="5203" y="281"/>
                  </a:lnTo>
                  <a:lnTo>
                    <a:pt x="5203" y="12"/>
                  </a:lnTo>
                  <a:lnTo>
                    <a:pt x="5108" y="12"/>
                  </a:lnTo>
                  <a:lnTo>
                    <a:pt x="5108" y="669"/>
                  </a:lnTo>
                  <a:lnTo>
                    <a:pt x="5203" y="669"/>
                  </a:lnTo>
                  <a:lnTo>
                    <a:pt x="5203" y="365"/>
                  </a:lnTo>
                  <a:lnTo>
                    <a:pt x="5522" y="365"/>
                  </a:lnTo>
                  <a:lnTo>
                    <a:pt x="5522" y="669"/>
                  </a:lnTo>
                  <a:lnTo>
                    <a:pt x="5619" y="669"/>
                  </a:lnTo>
                  <a:close/>
                  <a:moveTo>
                    <a:pt x="6721" y="669"/>
                  </a:moveTo>
                  <a:lnTo>
                    <a:pt x="6434" y="12"/>
                  </a:lnTo>
                  <a:lnTo>
                    <a:pt x="6342" y="12"/>
                  </a:lnTo>
                  <a:lnTo>
                    <a:pt x="6056" y="669"/>
                  </a:lnTo>
                  <a:lnTo>
                    <a:pt x="6159" y="669"/>
                  </a:lnTo>
                  <a:lnTo>
                    <a:pt x="6227" y="501"/>
                  </a:lnTo>
                  <a:lnTo>
                    <a:pt x="6549" y="501"/>
                  </a:lnTo>
                  <a:lnTo>
                    <a:pt x="6617" y="669"/>
                  </a:lnTo>
                  <a:lnTo>
                    <a:pt x="6721" y="669"/>
                  </a:lnTo>
                  <a:close/>
                  <a:moveTo>
                    <a:pt x="6519" y="425"/>
                  </a:moveTo>
                  <a:lnTo>
                    <a:pt x="6258" y="425"/>
                  </a:lnTo>
                  <a:lnTo>
                    <a:pt x="6388" y="102"/>
                  </a:lnTo>
                  <a:lnTo>
                    <a:pt x="6519" y="425"/>
                  </a:lnTo>
                  <a:close/>
                  <a:moveTo>
                    <a:pt x="7337" y="669"/>
                  </a:moveTo>
                  <a:lnTo>
                    <a:pt x="7337" y="12"/>
                  </a:lnTo>
                  <a:lnTo>
                    <a:pt x="7240" y="12"/>
                  </a:lnTo>
                  <a:lnTo>
                    <a:pt x="7240" y="538"/>
                  </a:lnTo>
                  <a:lnTo>
                    <a:pt x="7236" y="538"/>
                  </a:lnTo>
                  <a:lnTo>
                    <a:pt x="6950" y="12"/>
                  </a:lnTo>
                  <a:lnTo>
                    <a:pt x="6825" y="12"/>
                  </a:lnTo>
                  <a:lnTo>
                    <a:pt x="6825" y="669"/>
                  </a:lnTo>
                  <a:lnTo>
                    <a:pt x="6922" y="669"/>
                  </a:lnTo>
                  <a:lnTo>
                    <a:pt x="6922" y="142"/>
                  </a:lnTo>
                  <a:lnTo>
                    <a:pt x="6925" y="142"/>
                  </a:lnTo>
                  <a:lnTo>
                    <a:pt x="7212" y="669"/>
                  </a:lnTo>
                  <a:lnTo>
                    <a:pt x="7337" y="669"/>
                  </a:lnTo>
                  <a:close/>
                  <a:moveTo>
                    <a:pt x="8056" y="343"/>
                  </a:moveTo>
                  <a:lnTo>
                    <a:pt x="8055" y="309"/>
                  </a:lnTo>
                  <a:lnTo>
                    <a:pt x="8051" y="277"/>
                  </a:lnTo>
                  <a:lnTo>
                    <a:pt x="8044" y="246"/>
                  </a:lnTo>
                  <a:lnTo>
                    <a:pt x="8034" y="216"/>
                  </a:lnTo>
                  <a:lnTo>
                    <a:pt x="8022" y="188"/>
                  </a:lnTo>
                  <a:lnTo>
                    <a:pt x="8008" y="161"/>
                  </a:lnTo>
                  <a:lnTo>
                    <a:pt x="7990" y="135"/>
                  </a:lnTo>
                  <a:lnTo>
                    <a:pt x="7970" y="111"/>
                  </a:lnTo>
                  <a:lnTo>
                    <a:pt x="7947" y="88"/>
                  </a:lnTo>
                  <a:lnTo>
                    <a:pt x="7923" y="68"/>
                  </a:lnTo>
                  <a:lnTo>
                    <a:pt x="7896" y="51"/>
                  </a:lnTo>
                  <a:lnTo>
                    <a:pt x="7868" y="37"/>
                  </a:lnTo>
                  <a:lnTo>
                    <a:pt x="7839" y="26"/>
                  </a:lnTo>
                  <a:lnTo>
                    <a:pt x="7808" y="18"/>
                  </a:lnTo>
                  <a:lnTo>
                    <a:pt x="7775" y="13"/>
                  </a:lnTo>
                  <a:lnTo>
                    <a:pt x="7740" y="12"/>
                  </a:lnTo>
                  <a:lnTo>
                    <a:pt x="7509" y="12"/>
                  </a:lnTo>
                  <a:lnTo>
                    <a:pt x="7509" y="669"/>
                  </a:lnTo>
                  <a:lnTo>
                    <a:pt x="7740" y="669"/>
                  </a:lnTo>
                  <a:lnTo>
                    <a:pt x="7775" y="668"/>
                  </a:lnTo>
                  <a:lnTo>
                    <a:pt x="7808" y="663"/>
                  </a:lnTo>
                  <a:lnTo>
                    <a:pt x="7839" y="655"/>
                  </a:lnTo>
                  <a:lnTo>
                    <a:pt x="7868" y="645"/>
                  </a:lnTo>
                  <a:lnTo>
                    <a:pt x="7896" y="631"/>
                  </a:lnTo>
                  <a:lnTo>
                    <a:pt x="7923" y="614"/>
                  </a:lnTo>
                  <a:lnTo>
                    <a:pt x="7947" y="595"/>
                  </a:lnTo>
                  <a:lnTo>
                    <a:pt x="7970" y="572"/>
                  </a:lnTo>
                  <a:lnTo>
                    <a:pt x="7990" y="549"/>
                  </a:lnTo>
                  <a:lnTo>
                    <a:pt x="8008" y="523"/>
                  </a:lnTo>
                  <a:lnTo>
                    <a:pt x="8022" y="498"/>
                  </a:lnTo>
                  <a:lnTo>
                    <a:pt x="8034" y="469"/>
                  </a:lnTo>
                  <a:lnTo>
                    <a:pt x="8044" y="440"/>
                  </a:lnTo>
                  <a:lnTo>
                    <a:pt x="8051" y="409"/>
                  </a:lnTo>
                  <a:lnTo>
                    <a:pt x="8055" y="377"/>
                  </a:lnTo>
                  <a:lnTo>
                    <a:pt x="8056" y="343"/>
                  </a:lnTo>
                  <a:close/>
                  <a:moveTo>
                    <a:pt x="7961" y="343"/>
                  </a:moveTo>
                  <a:lnTo>
                    <a:pt x="7960" y="368"/>
                  </a:lnTo>
                  <a:lnTo>
                    <a:pt x="7956" y="391"/>
                  </a:lnTo>
                  <a:lnTo>
                    <a:pt x="7952" y="415"/>
                  </a:lnTo>
                  <a:lnTo>
                    <a:pt x="7945" y="436"/>
                  </a:lnTo>
                  <a:lnTo>
                    <a:pt x="7937" y="457"/>
                  </a:lnTo>
                  <a:lnTo>
                    <a:pt x="7927" y="476"/>
                  </a:lnTo>
                  <a:lnTo>
                    <a:pt x="7914" y="496"/>
                  </a:lnTo>
                  <a:lnTo>
                    <a:pt x="7900" y="513"/>
                  </a:lnTo>
                  <a:lnTo>
                    <a:pt x="7884" y="530"/>
                  </a:lnTo>
                  <a:lnTo>
                    <a:pt x="7866" y="545"/>
                  </a:lnTo>
                  <a:lnTo>
                    <a:pt x="7849" y="557"/>
                  </a:lnTo>
                  <a:lnTo>
                    <a:pt x="7829" y="567"/>
                  </a:lnTo>
                  <a:lnTo>
                    <a:pt x="7809" y="574"/>
                  </a:lnTo>
                  <a:lnTo>
                    <a:pt x="7787" y="581"/>
                  </a:lnTo>
                  <a:lnTo>
                    <a:pt x="7765" y="584"/>
                  </a:lnTo>
                  <a:lnTo>
                    <a:pt x="7740" y="585"/>
                  </a:lnTo>
                  <a:lnTo>
                    <a:pt x="7605" y="585"/>
                  </a:lnTo>
                  <a:lnTo>
                    <a:pt x="7605" y="96"/>
                  </a:lnTo>
                  <a:lnTo>
                    <a:pt x="7740" y="96"/>
                  </a:lnTo>
                  <a:lnTo>
                    <a:pt x="7765" y="97"/>
                  </a:lnTo>
                  <a:lnTo>
                    <a:pt x="7787" y="100"/>
                  </a:lnTo>
                  <a:lnTo>
                    <a:pt x="7809" y="106"/>
                  </a:lnTo>
                  <a:lnTo>
                    <a:pt x="7829" y="115"/>
                  </a:lnTo>
                  <a:lnTo>
                    <a:pt x="7849" y="125"/>
                  </a:lnTo>
                  <a:lnTo>
                    <a:pt x="7866" y="138"/>
                  </a:lnTo>
                  <a:lnTo>
                    <a:pt x="7884" y="154"/>
                  </a:lnTo>
                  <a:lnTo>
                    <a:pt x="7900" y="171"/>
                  </a:lnTo>
                  <a:lnTo>
                    <a:pt x="7927" y="209"/>
                  </a:lnTo>
                  <a:lnTo>
                    <a:pt x="7937" y="229"/>
                  </a:lnTo>
                  <a:lnTo>
                    <a:pt x="7945" y="250"/>
                  </a:lnTo>
                  <a:lnTo>
                    <a:pt x="7952" y="272"/>
                  </a:lnTo>
                  <a:lnTo>
                    <a:pt x="7956" y="295"/>
                  </a:lnTo>
                  <a:lnTo>
                    <a:pt x="7960" y="318"/>
                  </a:lnTo>
                  <a:lnTo>
                    <a:pt x="7961" y="343"/>
                  </a:lnTo>
                  <a:close/>
                  <a:moveTo>
                    <a:pt x="9395" y="12"/>
                  </a:moveTo>
                  <a:lnTo>
                    <a:pt x="9294" y="12"/>
                  </a:lnTo>
                  <a:lnTo>
                    <a:pt x="9134" y="554"/>
                  </a:lnTo>
                  <a:lnTo>
                    <a:pt x="9126" y="554"/>
                  </a:lnTo>
                  <a:lnTo>
                    <a:pt x="8987" y="12"/>
                  </a:lnTo>
                  <a:lnTo>
                    <a:pt x="8858" y="12"/>
                  </a:lnTo>
                  <a:lnTo>
                    <a:pt x="8720" y="554"/>
                  </a:lnTo>
                  <a:lnTo>
                    <a:pt x="8713" y="554"/>
                  </a:lnTo>
                  <a:lnTo>
                    <a:pt x="8552" y="12"/>
                  </a:lnTo>
                  <a:lnTo>
                    <a:pt x="8450" y="12"/>
                  </a:lnTo>
                  <a:lnTo>
                    <a:pt x="8655" y="669"/>
                  </a:lnTo>
                  <a:lnTo>
                    <a:pt x="8776" y="669"/>
                  </a:lnTo>
                  <a:lnTo>
                    <a:pt x="8921" y="98"/>
                  </a:lnTo>
                  <a:lnTo>
                    <a:pt x="8925" y="98"/>
                  </a:lnTo>
                  <a:lnTo>
                    <a:pt x="9069" y="669"/>
                  </a:lnTo>
                  <a:lnTo>
                    <a:pt x="9190" y="669"/>
                  </a:lnTo>
                  <a:lnTo>
                    <a:pt x="9395" y="12"/>
                  </a:lnTo>
                  <a:close/>
                  <a:moveTo>
                    <a:pt x="9873" y="94"/>
                  </a:moveTo>
                  <a:lnTo>
                    <a:pt x="9873" y="12"/>
                  </a:lnTo>
                  <a:lnTo>
                    <a:pt x="9503" y="12"/>
                  </a:lnTo>
                  <a:lnTo>
                    <a:pt x="9503" y="669"/>
                  </a:lnTo>
                  <a:lnTo>
                    <a:pt x="9871" y="669"/>
                  </a:lnTo>
                  <a:lnTo>
                    <a:pt x="9871" y="585"/>
                  </a:lnTo>
                  <a:lnTo>
                    <a:pt x="9598" y="585"/>
                  </a:lnTo>
                  <a:lnTo>
                    <a:pt x="9598" y="369"/>
                  </a:lnTo>
                  <a:lnTo>
                    <a:pt x="9848" y="369"/>
                  </a:lnTo>
                  <a:lnTo>
                    <a:pt x="9848" y="285"/>
                  </a:lnTo>
                  <a:lnTo>
                    <a:pt x="9598" y="285"/>
                  </a:lnTo>
                  <a:lnTo>
                    <a:pt x="9598" y="94"/>
                  </a:lnTo>
                  <a:lnTo>
                    <a:pt x="9873" y="94"/>
                  </a:lnTo>
                  <a:close/>
                  <a:moveTo>
                    <a:pt x="10398" y="669"/>
                  </a:moveTo>
                  <a:lnTo>
                    <a:pt x="10398" y="585"/>
                  </a:lnTo>
                  <a:lnTo>
                    <a:pt x="10129" y="585"/>
                  </a:lnTo>
                  <a:lnTo>
                    <a:pt x="10129" y="12"/>
                  </a:lnTo>
                  <a:lnTo>
                    <a:pt x="10033" y="12"/>
                  </a:lnTo>
                  <a:lnTo>
                    <a:pt x="10033" y="669"/>
                  </a:lnTo>
                  <a:lnTo>
                    <a:pt x="10398" y="669"/>
                  </a:lnTo>
                  <a:close/>
                  <a:moveTo>
                    <a:pt x="10889" y="94"/>
                  </a:moveTo>
                  <a:lnTo>
                    <a:pt x="10889" y="12"/>
                  </a:lnTo>
                  <a:lnTo>
                    <a:pt x="10518" y="12"/>
                  </a:lnTo>
                  <a:lnTo>
                    <a:pt x="10518" y="669"/>
                  </a:lnTo>
                  <a:lnTo>
                    <a:pt x="10613" y="669"/>
                  </a:lnTo>
                  <a:lnTo>
                    <a:pt x="10613" y="369"/>
                  </a:lnTo>
                  <a:lnTo>
                    <a:pt x="10864" y="369"/>
                  </a:lnTo>
                  <a:lnTo>
                    <a:pt x="10864" y="285"/>
                  </a:lnTo>
                  <a:lnTo>
                    <a:pt x="10613" y="285"/>
                  </a:lnTo>
                  <a:lnTo>
                    <a:pt x="10613" y="94"/>
                  </a:lnTo>
                  <a:lnTo>
                    <a:pt x="10889" y="94"/>
                  </a:lnTo>
                  <a:close/>
                  <a:moveTo>
                    <a:pt x="11580" y="669"/>
                  </a:moveTo>
                  <a:lnTo>
                    <a:pt x="11292" y="12"/>
                  </a:lnTo>
                  <a:lnTo>
                    <a:pt x="11201" y="12"/>
                  </a:lnTo>
                  <a:lnTo>
                    <a:pt x="10915" y="669"/>
                  </a:lnTo>
                  <a:lnTo>
                    <a:pt x="11017" y="669"/>
                  </a:lnTo>
                  <a:lnTo>
                    <a:pt x="11085" y="501"/>
                  </a:lnTo>
                  <a:lnTo>
                    <a:pt x="11408" y="501"/>
                  </a:lnTo>
                  <a:lnTo>
                    <a:pt x="11476" y="669"/>
                  </a:lnTo>
                  <a:lnTo>
                    <a:pt x="11580" y="669"/>
                  </a:lnTo>
                  <a:close/>
                  <a:moveTo>
                    <a:pt x="11377" y="425"/>
                  </a:moveTo>
                  <a:lnTo>
                    <a:pt x="11117" y="425"/>
                  </a:lnTo>
                  <a:lnTo>
                    <a:pt x="11247" y="102"/>
                  </a:lnTo>
                  <a:lnTo>
                    <a:pt x="11377" y="425"/>
                  </a:lnTo>
                  <a:close/>
                  <a:moveTo>
                    <a:pt x="12168" y="669"/>
                  </a:moveTo>
                  <a:lnTo>
                    <a:pt x="12168" y="585"/>
                  </a:lnTo>
                  <a:lnTo>
                    <a:pt x="12148" y="585"/>
                  </a:lnTo>
                  <a:lnTo>
                    <a:pt x="12140" y="584"/>
                  </a:lnTo>
                  <a:lnTo>
                    <a:pt x="12131" y="580"/>
                  </a:lnTo>
                  <a:lnTo>
                    <a:pt x="12123" y="572"/>
                  </a:lnTo>
                  <a:lnTo>
                    <a:pt x="12113" y="563"/>
                  </a:lnTo>
                  <a:lnTo>
                    <a:pt x="12094" y="536"/>
                  </a:lnTo>
                  <a:lnTo>
                    <a:pt x="12074" y="497"/>
                  </a:lnTo>
                  <a:lnTo>
                    <a:pt x="12048" y="444"/>
                  </a:lnTo>
                  <a:lnTo>
                    <a:pt x="12024" y="402"/>
                  </a:lnTo>
                  <a:lnTo>
                    <a:pt x="12003" y="370"/>
                  </a:lnTo>
                  <a:lnTo>
                    <a:pt x="11983" y="346"/>
                  </a:lnTo>
                  <a:lnTo>
                    <a:pt x="12014" y="331"/>
                  </a:lnTo>
                  <a:lnTo>
                    <a:pt x="12041" y="314"/>
                  </a:lnTo>
                  <a:lnTo>
                    <a:pt x="12063" y="296"/>
                  </a:lnTo>
                  <a:lnTo>
                    <a:pt x="12082" y="276"/>
                  </a:lnTo>
                  <a:lnTo>
                    <a:pt x="12096" y="255"/>
                  </a:lnTo>
                  <a:lnTo>
                    <a:pt x="12105" y="232"/>
                  </a:lnTo>
                  <a:lnTo>
                    <a:pt x="12111" y="208"/>
                  </a:lnTo>
                  <a:lnTo>
                    <a:pt x="12113" y="183"/>
                  </a:lnTo>
                  <a:lnTo>
                    <a:pt x="12113" y="164"/>
                  </a:lnTo>
                  <a:lnTo>
                    <a:pt x="12110" y="145"/>
                  </a:lnTo>
                  <a:lnTo>
                    <a:pt x="12106" y="128"/>
                  </a:lnTo>
                  <a:lnTo>
                    <a:pt x="12100" y="112"/>
                  </a:lnTo>
                  <a:lnTo>
                    <a:pt x="12092" y="97"/>
                  </a:lnTo>
                  <a:lnTo>
                    <a:pt x="12082" y="83"/>
                  </a:lnTo>
                  <a:lnTo>
                    <a:pt x="12070" y="70"/>
                  </a:lnTo>
                  <a:lnTo>
                    <a:pt x="12056" y="58"/>
                  </a:lnTo>
                  <a:lnTo>
                    <a:pt x="12042" y="47"/>
                  </a:lnTo>
                  <a:lnTo>
                    <a:pt x="12026" y="38"/>
                  </a:lnTo>
                  <a:lnTo>
                    <a:pt x="12010" y="30"/>
                  </a:lnTo>
                  <a:lnTo>
                    <a:pt x="11992" y="23"/>
                  </a:lnTo>
                  <a:lnTo>
                    <a:pt x="11973" y="18"/>
                  </a:lnTo>
                  <a:lnTo>
                    <a:pt x="11954" y="14"/>
                  </a:lnTo>
                  <a:lnTo>
                    <a:pt x="11912" y="12"/>
                  </a:lnTo>
                  <a:lnTo>
                    <a:pt x="11692" y="12"/>
                  </a:lnTo>
                  <a:lnTo>
                    <a:pt x="11692" y="669"/>
                  </a:lnTo>
                  <a:lnTo>
                    <a:pt x="11789" y="669"/>
                  </a:lnTo>
                  <a:lnTo>
                    <a:pt x="11789" y="378"/>
                  </a:lnTo>
                  <a:lnTo>
                    <a:pt x="11861" y="378"/>
                  </a:lnTo>
                  <a:lnTo>
                    <a:pt x="11875" y="379"/>
                  </a:lnTo>
                  <a:lnTo>
                    <a:pt x="11887" y="383"/>
                  </a:lnTo>
                  <a:lnTo>
                    <a:pt x="11898" y="389"/>
                  </a:lnTo>
                  <a:lnTo>
                    <a:pt x="11910" y="397"/>
                  </a:lnTo>
                  <a:lnTo>
                    <a:pt x="11921" y="408"/>
                  </a:lnTo>
                  <a:lnTo>
                    <a:pt x="11931" y="421"/>
                  </a:lnTo>
                  <a:lnTo>
                    <a:pt x="11941" y="436"/>
                  </a:lnTo>
                  <a:lnTo>
                    <a:pt x="11951" y="454"/>
                  </a:lnTo>
                  <a:lnTo>
                    <a:pt x="12018" y="593"/>
                  </a:lnTo>
                  <a:lnTo>
                    <a:pt x="12032" y="611"/>
                  </a:lnTo>
                  <a:lnTo>
                    <a:pt x="12045" y="627"/>
                  </a:lnTo>
                  <a:lnTo>
                    <a:pt x="12060" y="639"/>
                  </a:lnTo>
                  <a:lnTo>
                    <a:pt x="12076" y="650"/>
                  </a:lnTo>
                  <a:lnTo>
                    <a:pt x="12093" y="658"/>
                  </a:lnTo>
                  <a:lnTo>
                    <a:pt x="12110" y="665"/>
                  </a:lnTo>
                  <a:lnTo>
                    <a:pt x="12129" y="668"/>
                  </a:lnTo>
                  <a:lnTo>
                    <a:pt x="12148" y="669"/>
                  </a:lnTo>
                  <a:lnTo>
                    <a:pt x="12168" y="669"/>
                  </a:lnTo>
                  <a:close/>
                  <a:moveTo>
                    <a:pt x="12013" y="183"/>
                  </a:moveTo>
                  <a:lnTo>
                    <a:pt x="12011" y="205"/>
                  </a:lnTo>
                  <a:lnTo>
                    <a:pt x="12004" y="225"/>
                  </a:lnTo>
                  <a:lnTo>
                    <a:pt x="12000" y="234"/>
                  </a:lnTo>
                  <a:lnTo>
                    <a:pt x="11994" y="244"/>
                  </a:lnTo>
                  <a:lnTo>
                    <a:pt x="11986" y="253"/>
                  </a:lnTo>
                  <a:lnTo>
                    <a:pt x="11978" y="261"/>
                  </a:lnTo>
                  <a:lnTo>
                    <a:pt x="11960" y="276"/>
                  </a:lnTo>
                  <a:lnTo>
                    <a:pt x="11951" y="282"/>
                  </a:lnTo>
                  <a:lnTo>
                    <a:pt x="11940" y="287"/>
                  </a:lnTo>
                  <a:lnTo>
                    <a:pt x="11919" y="293"/>
                  </a:lnTo>
                  <a:lnTo>
                    <a:pt x="11896" y="295"/>
                  </a:lnTo>
                  <a:lnTo>
                    <a:pt x="11789" y="295"/>
                  </a:lnTo>
                  <a:lnTo>
                    <a:pt x="11789" y="94"/>
                  </a:lnTo>
                  <a:lnTo>
                    <a:pt x="11896" y="94"/>
                  </a:lnTo>
                  <a:lnTo>
                    <a:pt x="11919" y="95"/>
                  </a:lnTo>
                  <a:lnTo>
                    <a:pt x="11939" y="99"/>
                  </a:lnTo>
                  <a:lnTo>
                    <a:pt x="11959" y="106"/>
                  </a:lnTo>
                  <a:lnTo>
                    <a:pt x="11976" y="117"/>
                  </a:lnTo>
                  <a:lnTo>
                    <a:pt x="11993" y="130"/>
                  </a:lnTo>
                  <a:lnTo>
                    <a:pt x="12004" y="145"/>
                  </a:lnTo>
                  <a:lnTo>
                    <a:pt x="12011" y="164"/>
                  </a:lnTo>
                  <a:lnTo>
                    <a:pt x="12012" y="173"/>
                  </a:lnTo>
                  <a:lnTo>
                    <a:pt x="12013" y="183"/>
                  </a:lnTo>
                  <a:close/>
                  <a:moveTo>
                    <a:pt x="12677" y="94"/>
                  </a:moveTo>
                  <a:lnTo>
                    <a:pt x="12677" y="12"/>
                  </a:lnTo>
                  <a:lnTo>
                    <a:pt x="12307" y="12"/>
                  </a:lnTo>
                  <a:lnTo>
                    <a:pt x="12307" y="669"/>
                  </a:lnTo>
                  <a:lnTo>
                    <a:pt x="12675" y="669"/>
                  </a:lnTo>
                  <a:lnTo>
                    <a:pt x="12675" y="585"/>
                  </a:lnTo>
                  <a:lnTo>
                    <a:pt x="12402" y="585"/>
                  </a:lnTo>
                  <a:lnTo>
                    <a:pt x="12402" y="369"/>
                  </a:lnTo>
                  <a:lnTo>
                    <a:pt x="12652" y="369"/>
                  </a:lnTo>
                  <a:lnTo>
                    <a:pt x="12652" y="285"/>
                  </a:lnTo>
                  <a:lnTo>
                    <a:pt x="12402" y="285"/>
                  </a:lnTo>
                  <a:lnTo>
                    <a:pt x="12402" y="94"/>
                  </a:lnTo>
                  <a:lnTo>
                    <a:pt x="12677" y="94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308640"/>
              <a:ext cx="1531800" cy="107640"/>
            </a:xfrm>
            <a:custGeom>
              <a:avLst/>
              <a:gdLst/>
              <a:ahLst/>
              <a:rect l="l" t="t" r="r" b="b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41280" y="3951360"/>
            <a:ext cx="6661440" cy="198360"/>
            <a:chOff x="1241280" y="3951360"/>
            <a:chExt cx="6661440" cy="198360"/>
          </a:xfrm>
        </p:grpSpPr>
        <p:sp>
          <p:nvSpPr>
            <p:cNvPr id="44" name=""/>
            <p:cNvSpPr/>
            <p:nvPr/>
          </p:nvSpPr>
          <p:spPr>
            <a:xfrm>
              <a:off x="4195800" y="3951360"/>
              <a:ext cx="3706920" cy="198360"/>
            </a:xfrm>
            <a:custGeom>
              <a:avLst/>
              <a:gdLst/>
              <a:ahLst/>
              <a:rect l="l" t="t" r="r" b="b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41280" y="3951360"/>
              <a:ext cx="2820960" cy="198360"/>
            </a:xfrm>
            <a:custGeom>
              <a:avLst/>
              <a:gdLst/>
              <a:ahLst/>
              <a:rect l="l" t="t" r="r" b="b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1"/>
          </p:nvPr>
        </p:nvSpPr>
        <p:spPr>
          <a:xfrm>
            <a:off x="899640" y="6237360"/>
            <a:ext cx="7488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.opasnet.org/fi/Meluvaikutusten_arviointi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ffffff"/>
                </a:solidFill>
                <a:latin typeface="Arial"/>
              </a:rPr>
              <a:t>Minera-malli Opasnetissa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03280" y="5805360"/>
            <a:ext cx="64008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Arial"/>
              </a:rPr>
              <a:t>Jouni Tuomisto, TH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Arial"/>
              </a:rPr>
              <a:t>Minera-tiim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" descr="vipuvoimaaEU_rgb (ID 3317).jpg"/>
          <p:cNvPicPr/>
          <p:nvPr/>
        </p:nvPicPr>
        <p:blipFill>
          <a:blip r:embed="rId1"/>
          <a:stretch/>
        </p:blipFill>
        <p:spPr>
          <a:xfrm>
            <a:off x="7007400" y="6035760"/>
            <a:ext cx="2136600" cy="82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EU-lippu EAKR läpinäkyvä.jpg"/>
          <p:cNvPicPr/>
          <p:nvPr/>
        </p:nvPicPr>
        <p:blipFill>
          <a:blip r:embed="rId2"/>
          <a:stretch/>
        </p:blipFill>
        <p:spPr>
          <a:xfrm>
            <a:off x="7596360" y="5119560"/>
            <a:ext cx="1547640" cy="75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Tekes logo vaaka (ID 3329).jpg"/>
          <p:cNvPicPr/>
          <p:nvPr/>
        </p:nvPicPr>
        <p:blipFill>
          <a:blip r:embed="rId3"/>
          <a:stretch/>
        </p:blipFill>
        <p:spPr>
          <a:xfrm>
            <a:off x="0" y="5229360"/>
            <a:ext cx="1676520" cy="49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Minera logo plain lapinakyva (ID 3408).png"/>
          <p:cNvPicPr/>
          <p:nvPr/>
        </p:nvPicPr>
        <p:blipFill>
          <a:blip r:embed="rId4"/>
          <a:stretch/>
        </p:blipFill>
        <p:spPr>
          <a:xfrm>
            <a:off x="0" y="5870520"/>
            <a:ext cx="1996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eluvaikutusten arvioint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Sienitutkimus Luikonlahdell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Luikonlahden terveysriskinarvioint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Louheen lastauksen hiukkaspääs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Louheen lastaus: syötedataa mallii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apauskohtaisen mallin tiedot ja laske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merkkitulo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Usein kysyttyjä kysymyksi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en sisällön laatu varmistetaa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rojektin aikana tieteelliset käytännöt, jatkossa palaute virheistä tai puutteista (jokaista sivua voi kommento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en sivustoa ylläpidetää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L vastaa yleisestä ylläpidosta ja löydettyjen virheiden käsittelystä. Jatkokehitys au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uka voi käyttää Minera-malli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ka tahansa voi lukea. Osamalleja helppo ajaa vähällä datalla. Kohdekohtaisen mallin rakentaminen vaatii paneutumista (konsult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elmä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inera-malli mahdollistaa toimintatavan, jossa vaaditaan paitsi vaikutusarviointi myös sen yksityiskohtaiset perustelut päätöksenteon pohjak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allissa on tärkeitä kehityskohteita (esim. vesistövirtausmalli puuttu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allissa on varmaankin virheitä, mu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e on silti nykyiselläänkin varsin hyödyllinen, 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irheiden huomaaminen on tehty mahdollisimman helpoksi 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iiden korjaaminen sujuvak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allin jatkokehitys on auki, vaikka olisi nyt helppo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äyttökoulutusta tarvittaneen, tämä olisi suunniteltava kysynnän pohj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llin tavoite ja toimintaid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llin perusraken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ej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äätelmä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nera-mallin tavoi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ken sisällö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tkokäytettävy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ritisoitavu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n avoimu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voksiin liittyvät päätökset on voitava peruste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ikutusarvioinnit päätösten peruste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ata ja mallit vaikutusarviointien peruste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nera-mallin toteut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kki sisältö internetissä saatavissa ja käytettäviss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 (http://fi.opasnet.org/fi/Minera)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L:n ylläpitämä yleiskäyttöinen verkkotyöt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ettisivusto ja laskentaympäristö yhtä aik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hdollisuus rakentaa sisältöjä kuin lego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men verkkotyöskentelyn toimintamalli on ainutlaatuinen vaikutusarviointien ala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nera-malli tarjoa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leistä kaivosten käytäntöihin liittyvää ohjeistusta (mm. Metallikaivosten parhaat ympäristökäytännö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äsmällisempiä ”keittokirjareseptejä” riskinarvioinnin eri osien tekemiseen (pohjavesien virtaus, melu, haju, ekologisen riskin luonnehdinta…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samalleja tiettyjen osien laskemiseen tapauskohtaisilla tiedoi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okonaismallin eri osamallien yhdistä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nera-mallin os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http://fi.opasnet.org/fi_wiki/images/d/d4/Minera-kokonaismalli.png"/>
          <p:cNvPicPr/>
          <p:nvPr/>
        </p:nvPicPr>
        <p:blipFill>
          <a:blip r:embed="rId1"/>
          <a:stretch/>
        </p:blipFill>
        <p:spPr>
          <a:xfrm>
            <a:off x="539640" y="0"/>
            <a:ext cx="758196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nera-malli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ksi asia yhdellä sivulla. Sivutyyppejä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samalli, met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eis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heen esittely, ensyklopedia-artikk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paustutkimus, esimerk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ivun raken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ivistelm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 (esittelee ja rajaa aih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7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7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Laske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itteet, linkit 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allin tekninen toteut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ivusto: wiki (kuten Wikiped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askenta: R (yleinen laskentaympäristö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kanta: MongoDB (joustava, isoille datoil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GIS-visualisointi: Google Ma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kantayhteydet: mm. Sotkanet, Maanmittauslaitos, Tilastokeskus, Sorvi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kki on avointa lähdekoodia (CC-BY-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kki osat ovat kiinnostuneiden luettavissa ja lainattavi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merkkisivuj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http://fi.opasnet.org/fi/Meluvaikutusten_arviointi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ttp://fi.opasnet.org/fi/Luikonlahden_sienitutkim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uikonlahden terveysriskinarvioi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ttp://fi.opasnet.org/fi/Louheen_lastaus_ja_pudot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ohdekohtaisen Minera-arvioinnin esimerkkisiv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malli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8:14:12Z</dcterms:created>
  <dc:creator>ktluser</dc:creator>
  <dc:description/>
  <dc:language>en-US</dc:language>
  <cp:lastModifiedBy>ktluser</cp:lastModifiedBy>
  <dcterms:modified xsi:type="dcterms:W3CDTF">2013-04-17T05:35:05Z</dcterms:modified>
  <cp:revision>5</cp:revision>
  <dc:subject/>
  <dc:title>Minera-malli Opasnetissä</dc:title>
</cp:coreProperties>
</file>